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4CF0-270D-4EB9-977C-4D2AF26BD42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53B6-363D-4234-A442-9220E1989C2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9A2A-2D45-4389-873E-EB79386A0DE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ED83-E5B3-4419-92EE-C2C82543034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9176-C831-4A4F-B9A6-D4725355786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5179-5F60-40FA-9A02-7D5E5429533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138D-0804-4091-88CD-2C0DF37E529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4E2B-EE5B-4B08-929F-4ACB8464E74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51EB-C1D6-4D25-9E20-9C3F346A414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4FDF-EFE0-4BC1-8646-C4E228D6F58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14B3-456E-4E74-BD18-EFFDE54D634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FF5E-585E-449C-8412-F7F73788568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4C95-8437-4FFF-9DE1-340CD1CDF62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FB4-D3E0-4983-99D7-7F312D47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D8E-826A-446E-8C56-A3A10B1D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D22-D127-41A5-BDF1-484B1490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D8F-EC91-412B-8029-CAB53BBD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022-5CB6-4537-829B-A195FD05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93D-1D81-4C3D-96F2-746FFAF8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BDC-F7B1-485A-BE73-6FC4C61A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161-E086-47CD-A5E8-A70275D3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FA5-D2B8-4EEF-A869-4BA35EA9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AEC-81C5-4E16-A7A8-94D9E937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073-D655-4045-AF66-B2357AFF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34A-C1BF-4CA6-A149-8994FF75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EFF1-32F8-4406-AF75-B7425D3D5000}" type="slidenum">
              <a:rPr b="0" lang="it-IT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4"/>
          <p:cNvSpPr/>
          <p:nvPr/>
        </p:nvSpPr>
        <p:spPr>
          <a:xfrm>
            <a:off x="4716360" y="1916280"/>
            <a:ext cx="44276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000000"/>
                </a:solidFill>
                <a:latin typeface="Trebuchet MS"/>
              </a:rPr>
              <a:t>SA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000000"/>
                </a:solidFill>
                <a:latin typeface="Trebuchet MS"/>
              </a:rPr>
              <a:t>PAOL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5"/>
          <p:cNvSpPr/>
          <p:nvPr/>
        </p:nvSpPr>
        <p:spPr>
          <a:xfrm>
            <a:off x="108000" y="5589720"/>
            <a:ext cx="8928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Trebuchet MS"/>
              </a:rPr>
              <a:t>APOSTOLO DELLE GENT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6"/>
          <p:cNvSpPr/>
          <p:nvPr/>
        </p:nvSpPr>
        <p:spPr>
          <a:xfrm rot="20446800">
            <a:off x="3980880" y="3876840"/>
            <a:ext cx="4970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800000"/>
                </a:solidFill>
                <a:latin typeface="Forte"/>
              </a:rPr>
              <a:t>migran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san-paolo-desidera-morire-per-vivere-con-gesu"/>
          <p:cNvPicPr/>
          <p:nvPr/>
        </p:nvPicPr>
        <p:blipFill>
          <a:blip r:embed="rId1"/>
          <a:stretch/>
        </p:blipFill>
        <p:spPr>
          <a:xfrm>
            <a:off x="250920" y="333360"/>
            <a:ext cx="4321080" cy="4275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572000" y="404640"/>
            <a:ext cx="44640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Dio che ha fatto il mondo e tutto ciò che contiene, che è signore del cielo e della terra, non dimora in templi costruiti dalle mani dell'uom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 lui infatti viviamo, ci muoviamo ed esistiamo, </a:t>
            </a: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come anche alcuni dei vostri poeti hanno det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Poiché di lui stirpe noi siam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 17,24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20400AW"/>
          <p:cNvPicPr/>
          <p:nvPr/>
        </p:nvPicPr>
        <p:blipFill>
          <a:blip r:embed="rId1"/>
          <a:stretch/>
        </p:blipFill>
        <p:spPr>
          <a:xfrm>
            <a:off x="316080" y="549360"/>
            <a:ext cx="4025880" cy="5040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San Paolo 325"/>
          <p:cNvPicPr/>
          <p:nvPr/>
        </p:nvPicPr>
        <p:blipFill>
          <a:blip r:embed="rId1"/>
          <a:stretch/>
        </p:blipFill>
        <p:spPr>
          <a:xfrm>
            <a:off x="3929040" y="938160"/>
            <a:ext cx="5214960" cy="591984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0" name="CasellaDiTesto 2"/>
          <p:cNvSpPr/>
          <p:nvPr/>
        </p:nvSpPr>
        <p:spPr>
          <a:xfrm>
            <a:off x="285840" y="357120"/>
            <a:ext cx="35002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Dio ha scelto </a:t>
            </a:r>
            <a:r>
              <a:rPr b="1" lang="it-IT" sz="2400" spc="-1" strike="noStrike">
                <a:solidFill>
                  <a:srgbClr val="800000"/>
                </a:solidFill>
                <a:latin typeface="Trebuchet MS"/>
              </a:rPr>
              <a:t>ciò che nel mondo è stolto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per confondere i sapienti, Dio ha scelto </a:t>
            </a:r>
            <a:r>
              <a:rPr b="1" lang="it-IT" sz="2400" spc="-1" strike="noStrike">
                <a:solidFill>
                  <a:srgbClr val="800000"/>
                </a:solidFill>
                <a:latin typeface="Trebuchet MS"/>
              </a:rPr>
              <a:t>ciò che nel mondo è debole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per confondere i forti, Dio ha scelto </a:t>
            </a:r>
            <a:r>
              <a:rPr b="1" lang="it-IT" sz="2400" spc="-1" strike="noStrike">
                <a:solidFill>
                  <a:srgbClr val="800000"/>
                </a:solidFill>
                <a:latin typeface="Trebuchet MS"/>
              </a:rPr>
              <a:t>ciò che nel mondo è ignobile e disprezzato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e ciò che è nulla per ridurre a nulla le cose che sono, perché nessun uomo possa gloriarsi davanti a Dio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1Cor 1, 27-2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CasellaDiTesto 3"/>
          <p:cNvSpPr/>
          <p:nvPr/>
        </p:nvSpPr>
        <p:spPr>
          <a:xfrm>
            <a:off x="250920" y="260280"/>
            <a:ext cx="4825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fatti, pur essendo libero da tutti, mi sono fatto servo di tutti per guadagnarne il maggior numero: </a:t>
            </a: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mi sono fatto Giudeo con i Giude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, per guadagnare i Giudei;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Mi sono fatto debole con i debol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, per guadagnare i deboli; </a:t>
            </a: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mi sono fatto tutto a tutt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, per salvare ad ogni costo qualcu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1Cor 9, 19-2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mmagine 5" descr="pza s pietro2.jpg"/>
          <p:cNvPicPr/>
          <p:nvPr/>
        </p:nvPicPr>
        <p:blipFill>
          <a:blip r:embed="rId1"/>
          <a:stretch/>
        </p:blipFill>
        <p:spPr>
          <a:xfrm>
            <a:off x="5214960" y="941400"/>
            <a:ext cx="3929040" cy="591660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magine 2" descr="paolo basilica.jpg"/>
          <p:cNvPicPr/>
          <p:nvPr/>
        </p:nvPicPr>
        <p:blipFill>
          <a:blip r:embed="rId1"/>
          <a:stretch/>
        </p:blipFill>
        <p:spPr>
          <a:xfrm>
            <a:off x="3592440" y="0"/>
            <a:ext cx="5551560" cy="685800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4" name="Text Box 6"/>
          <p:cNvSpPr/>
          <p:nvPr/>
        </p:nvSpPr>
        <p:spPr>
          <a:xfrm>
            <a:off x="214200" y="214200"/>
            <a:ext cx="3571920" cy="56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utti voi infatti siete figli di Dio per la fede in Cristo Gesù, poiché quanti siete stati battezzati in Cristo, vi siete rivestiti di Cri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Trebuchet MS"/>
              </a:rPr>
              <a:t>Non c'è più giudeo né greco; non c'è più schiavo né libero; non c'è più uomo né donna, poiché tutti voi siete uno in Cristo Gesù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Galati 3,26-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5076720" y="3573360"/>
            <a:ext cx="367344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Non siete più stranieri né ospiti, ma siete concittadini dei santi e familiari di Di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fesini 2,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scriba Wolfcoz"/>
          <p:cNvPicPr/>
          <p:nvPr/>
        </p:nvPicPr>
        <p:blipFill>
          <a:blip r:embed="rId1"/>
          <a:stretch/>
        </p:blipFill>
        <p:spPr>
          <a:xfrm>
            <a:off x="179280" y="189000"/>
            <a:ext cx="4691160" cy="6408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migrazioni 2009-ok6"/>
          <p:cNvPicPr/>
          <p:nvPr/>
        </p:nvPicPr>
        <p:blipFill>
          <a:blip r:embed="rId1"/>
          <a:stretch/>
        </p:blipFill>
        <p:spPr>
          <a:xfrm>
            <a:off x="4356000" y="217440"/>
            <a:ext cx="4610160" cy="642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8" name="Rectangle 9"/>
          <p:cNvSpPr/>
          <p:nvPr/>
        </p:nvSpPr>
        <p:spPr>
          <a:xfrm>
            <a:off x="108000" y="2205000"/>
            <a:ext cx="410508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IL MANIF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chiave a forma di croce è di tut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ssuno è il padrone di cas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ssuno è ospite e nessuno è stran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targhette portachiavi portano nomi di diverse persone in tante ling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ricchezza dei colori può essere interpretata anche come la ricchezza di una umanità variopinta, la ricchezza di mondi e continenti… comunque come armonia di diversità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logo_paolino"/>
          <p:cNvPicPr/>
          <p:nvPr/>
        </p:nvPicPr>
        <p:blipFill>
          <a:blip r:embed="rId1"/>
          <a:stretch/>
        </p:blipFill>
        <p:spPr>
          <a:xfrm>
            <a:off x="179280" y="404640"/>
            <a:ext cx="870120" cy="1008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</p:pic>
      <p:sp>
        <p:nvSpPr>
          <p:cNvPr id="80" name="Text Box 5"/>
          <p:cNvSpPr/>
          <p:nvPr/>
        </p:nvSpPr>
        <p:spPr>
          <a:xfrm>
            <a:off x="108000" y="11592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NNO PAOL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igrazioni 2009-ok6"/>
          <p:cNvPicPr/>
          <p:nvPr/>
        </p:nvPicPr>
        <p:blipFill>
          <a:blip r:embed="rId2"/>
          <a:stretch/>
        </p:blipFill>
        <p:spPr>
          <a:xfrm>
            <a:off x="4356000" y="217440"/>
            <a:ext cx="4610160" cy="642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2" name="Picture 7" descr="fuga"/>
          <p:cNvPicPr/>
          <p:nvPr/>
        </p:nvPicPr>
        <p:blipFill>
          <a:blip r:embed="rId3"/>
          <a:stretch/>
        </p:blipFill>
        <p:spPr>
          <a:xfrm>
            <a:off x="2104920" y="925560"/>
            <a:ext cx="3529080" cy="3462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3" name="Text Box 8"/>
          <p:cNvSpPr/>
          <p:nvPr/>
        </p:nvSpPr>
        <p:spPr>
          <a:xfrm>
            <a:off x="0" y="530064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FONDAZIONE 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50920" y="580536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a Aurelia 796 – 00165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l. 06 661 79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50920" y="501336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ferenza Episcopale Ital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3"/>
          <p:cNvSpPr/>
          <p:nvPr/>
        </p:nvSpPr>
        <p:spPr>
          <a:xfrm>
            <a:off x="5143680" y="500040"/>
            <a:ext cx="3714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E avvenne che, mentre era in viaggio e stava per avvicinarsi a Damasco, </a:t>
            </a:r>
            <a:r>
              <a:rPr b="1" lang="it-IT" sz="2400" spc="-1" strike="noStrike">
                <a:solidFill>
                  <a:srgbClr val="800000"/>
                </a:solidFill>
                <a:latin typeface="Trebuchet MS"/>
              </a:rPr>
              <a:t>all'improvviso lo avvolse una luce dal cielo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e cadendo a terra udì una voce che gli diceva: «Saulo, Saulo, perché mi perseguiti?»</a:t>
            </a:r>
            <a:br>
              <a:rPr sz="2400"/>
            </a:br>
            <a:br>
              <a:rPr sz="2400"/>
            </a:b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(Atti 9, 3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magine 4" descr="La_conversione_di_San_Paolo_(SM_Popolo).jpg"/>
          <p:cNvPicPr/>
          <p:nvPr/>
        </p:nvPicPr>
        <p:blipFill>
          <a:blip r:embed="rId1"/>
          <a:stretch/>
        </p:blipFill>
        <p:spPr>
          <a:xfrm>
            <a:off x="357120" y="214200"/>
            <a:ext cx="4640400" cy="6143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magine 2" descr="angel43.jpg"/>
          <p:cNvPicPr/>
          <p:nvPr/>
        </p:nvPicPr>
        <p:blipFill>
          <a:blip r:embed="rId1"/>
          <a:stretch/>
        </p:blipFill>
        <p:spPr>
          <a:xfrm>
            <a:off x="357120" y="357120"/>
            <a:ext cx="4788000" cy="6143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5" name="CasellaDiTesto 3"/>
          <p:cNvSpPr/>
          <p:nvPr/>
        </p:nvSpPr>
        <p:spPr>
          <a:xfrm>
            <a:off x="5500800" y="642960"/>
            <a:ext cx="3286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Rispose: «Chi sei, o Signore?». E la voce: «Io sono Gesù, che tu perseguiti! Orsù, alzati ed entra nella città e </a:t>
            </a:r>
            <a:r>
              <a:rPr b="1" lang="it-IT" sz="2400" spc="-1" strike="noStrike">
                <a:solidFill>
                  <a:srgbClr val="800000"/>
                </a:solidFill>
                <a:latin typeface="Trebuchet MS"/>
              </a:rPr>
              <a:t>ti sarà detto ciò che devi fare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(Atti 9, 5-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magine 3" descr="18_restout_ananias_imposant_les_mains___paul.jpg"/>
          <p:cNvPicPr/>
          <p:nvPr/>
        </p:nvPicPr>
        <p:blipFill>
          <a:blip r:embed="rId1"/>
          <a:stretch/>
        </p:blipFill>
        <p:spPr>
          <a:xfrm>
            <a:off x="250920" y="260280"/>
            <a:ext cx="4224240" cy="5329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7" name="Text Box 4"/>
          <p:cNvSpPr/>
          <p:nvPr/>
        </p:nvSpPr>
        <p:spPr>
          <a:xfrm>
            <a:off x="4572000" y="112536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C'erano nella comunità di Antiochia profeti e dottor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Mentre essi stavano celebrando il culto del Signore e digiunando, lo Spirito Santo disse: </a:t>
            </a:r>
            <a:r>
              <a:rPr b="1" lang="it-IT" sz="2400" spc="-1" strike="noStrike">
                <a:solidFill>
                  <a:srgbClr val="800000"/>
                </a:solidFill>
                <a:latin typeface="Trebuchet MS"/>
              </a:rPr>
              <a:t>«Riservate per me Barnaba e Saulo per l'opera alla quale li ho chiamati»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Allora, dopo aver digiunato e pregato, imposero loro le mani 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li accomiatarono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 13,1a-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magine 2" descr="St_Paul-Icon-700px.jpg"/>
          <p:cNvPicPr/>
          <p:nvPr/>
        </p:nvPicPr>
        <p:blipFill>
          <a:blip r:embed="rId1"/>
          <a:stretch/>
        </p:blipFill>
        <p:spPr>
          <a:xfrm>
            <a:off x="179280" y="1628640"/>
            <a:ext cx="4764240" cy="5040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" name="Text Box 4"/>
          <p:cNvSpPr/>
          <p:nvPr/>
        </p:nvSpPr>
        <p:spPr>
          <a:xfrm>
            <a:off x="5003640" y="361800"/>
            <a:ext cx="3889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mentre pregavo nel tempio, fui rapito in estasi e vidi Lui che mi diceva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Affrettati ed esci presto da Gerusalemme, perché non accetteranno la tua testimonianza su di 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«</a:t>
            </a:r>
            <a:r>
              <a:rPr b="1" lang="it-IT" sz="2400" spc="-1" strike="noStrike">
                <a:solidFill>
                  <a:srgbClr val="800000"/>
                </a:solidFill>
                <a:latin typeface="Trebuchet MS"/>
              </a:rPr>
              <a:t>Va', perché io ti manderò lontano, tra i pagani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Atti 22,17-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211640" y="552600"/>
            <a:ext cx="461016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Qui trovò un Giudeo chiamato Aquila, oriundo del Ponto, arrivato poco prima dall'Italia con la moglie Priscilla, in seguito all'ordine di Claudio che allontanava da Roma tutti i Giudei. Paolo si recò da l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e poiché erano del medesimo mestiere, </a:t>
            </a:r>
            <a:r>
              <a:rPr b="1" lang="it-IT" sz="2400" spc="-1" strike="noStrike">
                <a:solidFill>
                  <a:srgbClr val="800000"/>
                </a:solidFill>
                <a:latin typeface="Trebuchet MS"/>
              </a:rPr>
              <a:t>si stabilì nella loro casa e lavorava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. Erano infatti di mestiere fabbricatori di te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Trebuchet MS"/>
              </a:rPr>
              <a:t>Ogni sabato poi discuteva nella sinagog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e cercava di persuadere Giudei e Gre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Atti 18,2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an Paolo con Aquila e Priscilla"/>
          <p:cNvPicPr/>
          <p:nvPr/>
        </p:nvPicPr>
        <p:blipFill>
          <a:blip r:embed="rId1"/>
          <a:stretch/>
        </p:blipFill>
        <p:spPr>
          <a:xfrm>
            <a:off x="208080" y="260280"/>
            <a:ext cx="3879720" cy="5184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4572000" y="255600"/>
            <a:ext cx="4319640" cy="63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rebuchet MS"/>
              </a:rPr>
              <a:t>Viaggi innumerevoli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, pericoli di fiumi, pericoli di briganti, pericoli dai miei connazionali, pericoli dai pagani, pericoli nella città, pericoli nel deserto, pericoli sul mare, pericoli da parte di falsi fratelli; fatica e travaglio, veglie senza numero, fame e sete, frequenti digiuni, freddo e nud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E oltre a tutto questo, il mio assillo quotidiano, </a:t>
            </a:r>
            <a:r>
              <a:rPr b="1" lang="it-IT" sz="2400" spc="-1" strike="noStrike">
                <a:solidFill>
                  <a:srgbClr val="800000"/>
                </a:solidFill>
                <a:latin typeface="Trebuchet MS"/>
              </a:rPr>
              <a:t>la preoccupazione per tutte le Chie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2Corinzi 11,26-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04"/>
          <p:cNvPicPr/>
          <p:nvPr/>
        </p:nvPicPr>
        <p:blipFill>
          <a:blip r:embed="rId1"/>
          <a:stretch/>
        </p:blipFill>
        <p:spPr>
          <a:xfrm>
            <a:off x="324000" y="1268280"/>
            <a:ext cx="4095720" cy="5286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Ortelius, mappa dei viaggi dell'apostolo Paolo"/>
          <p:cNvPicPr/>
          <p:nvPr/>
        </p:nvPicPr>
        <p:blipFill>
          <a:blip r:embed="rId1"/>
          <a:stretch/>
        </p:blipFill>
        <p:spPr>
          <a:xfrm>
            <a:off x="412920" y="237960"/>
            <a:ext cx="8316720" cy="638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8%20PANINI%20SAINT%20PAUL%20PREACHING"/>
          <p:cNvPicPr/>
          <p:nvPr/>
        </p:nvPicPr>
        <p:blipFill>
          <a:blip r:embed="rId1"/>
          <a:stretch/>
        </p:blipFill>
        <p:spPr>
          <a:xfrm>
            <a:off x="2484360" y="2673360"/>
            <a:ext cx="6408720" cy="4005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6" name="Text Box 3"/>
          <p:cNvSpPr/>
          <p:nvPr/>
        </p:nvSpPr>
        <p:spPr>
          <a:xfrm>
            <a:off x="108000" y="189000"/>
            <a:ext cx="8928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lora Paolo, alzatosi in mezzo all'Areòpago, disse: «Cittadini ateniesi, </a:t>
            </a: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vedo che in tutto siete molto timorati degli dè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. Passando infatti e osservando i monumenti del vostro culto, ho trovato anche un'ara con l'iscrizione: Al Dio ignoto. </a:t>
            </a: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Quello che voi adorate senza conoscere, io ve lo annunzi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 17,22-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4:36:56Z</dcterms:created>
  <dc:creator>Luciano Cantini</dc:creator>
  <dc:description/>
  <dc:language>en-US</dc:language>
  <cp:lastModifiedBy>oem</cp:lastModifiedBy>
  <dcterms:modified xsi:type="dcterms:W3CDTF">2008-10-18T06:12:58Z</dcterms:modified>
  <cp:revision>27</cp:revision>
  <dc:subject/>
  <dc:title>Diapositiva 1</dc:title>
</cp:coreProperties>
</file>